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20E-7260-46A4-ABBA-5CC80BF6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129-1FF9-4EEE-896C-C0964D21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C87-5473-4499-BCD6-20FE95B0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04A-713B-426B-8057-14C94107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60F-8B08-4AA0-B3C0-4503F429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30E-80A2-49D5-AA74-ABE5E5E9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590-F28A-4C0A-AF1C-5073CD39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F57-C952-44AD-9D3D-485C6471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906-8BA5-46E2-BE82-EE847FB2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314-82C9-4F17-8834-2C6823FD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D3C-D672-4B41-B4B9-09635808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92C-D103-4D61-9DC5-50401239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8681-1C48-4DCC-ACF7-F30C78C7B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895480"/>
            <a:ext cx="5486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DIERD SUPPORT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Personnel Readiness Data From The Unit Status Rep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US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ACTICAL EXERCISE SUP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11286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1680" y="-11177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61920" y="72928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1680" y="176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63360" y="-11177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61920" y="72928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63360" y="176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6440" y="228600"/>
            <a:ext cx="84279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71360"/>
            <a:ext cx="86868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47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4:54:04Z</dcterms:created>
  <dc:creator>mike.a.williams</dc:creator>
  <dc:description/>
  <dc:language>en-US</dc:language>
  <cp:lastModifiedBy>Administrator</cp:lastModifiedBy>
  <dcterms:modified xsi:type="dcterms:W3CDTF">2005-07-08T21:04:27Z</dcterms:modified>
  <cp:revision>9</cp:revision>
  <dc:subject/>
  <dc:title>Slide 1</dc:title>
</cp:coreProperties>
</file>